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E6B-C61B-4C1E-8980-7E8DDDBF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845-89D1-4443-B369-4F4D5878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838-CBC4-417D-995B-98652F7E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E49-D73D-4934-8A55-47A1BB12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B6A-48F7-41EE-A2F1-FA1B3529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F57-E6A7-407F-8501-2A795D8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DAB-E714-44DE-B1B2-6812DD46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57A-3860-4918-8282-BEEA9427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AF1-52F4-4359-BC4C-F63185B4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045-ED45-486F-955F-8FB79825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E4A-C551-47F5-943A-9425F099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916-D5D2-4A12-B80A-56AC3D4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929B-A34B-45AB-9D7F-240FCA6134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调节自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96120" y="4428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那么，如何制止自我被人践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8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在任何场合中都要表明你不是一个容人摆布的傀儡，不要让人用敷衍的态度对待你，而你的处事态度也要认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不要允许任何人在态度上或言语间对你不尊重，当有类似事情发生时，要求对方澄清他的立场。不要怕公开的冲突，畏缩只会导致被人无理践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当你表明立场而有人向你挑战时，你必须为本身的立场作出辩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03760" y="536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四、提防越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1768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越界行为，即我们所指的过激行为。自我确定性的行为与过激行为的区别在于：前者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是用于维护自己的尊严及权益，并促进个人的成长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后者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不但伤害别人，还是孩子气和不负责任的表现，不是自信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因此，应时常提醒自己不可越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7640" y="1633680"/>
            <a:ext cx="5977080" cy="359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33320" y="26179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回音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进行上述自我确定的训练之后，你应该已经能够区分哪些待遇可以心平气和的接受，哪些待遇应该提出抗议。你的自我不再模糊不清，而逐渐清晰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但是在改变的过程中，你应考虑到，你身边的某些人未必欢迎你的改变，他们可能会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表现得烦躁不安，甚至刻意地讲些话或做些事情去伤害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因为他们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不习惯于你变得自信、有主见、对不公平的待遇作出反抗，并企图逼你回到从前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时，你应该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坚持自己的信念，把确定的自我当作日常生活的中心，千万不能屈从于他人的威胁而放弃作出的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337080" cy="440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0000" y="2492280"/>
            <a:ext cx="423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启思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84978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勇敢跨出第一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许多人看到今天的我，都会以为我从小就充满信心。我必须坦诚，这其实是完全相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们家共有六个兄弟姐妹，我排行老二，是长女。小时候每有亲戚朋友到家里，看到我们长相迥异的三姐妹，总十分惊异，而父母的介绍永远千篇一律：“这是老大，最乖，最会读书，最体贴；老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漂亮，歌喉最好；老三最可爱，皮肤最白最漂亮。”因为我根本算不上漂亮，所以父母才用”乖“来介绍，避免我伤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很庆幸的是父母给了我很好的天赋，除了读书过目不忘，从小我就一直拿作文比赛的第一名，并代表学校出去参加比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549360"/>
            <a:ext cx="86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外，我的画也画得很好，这些都是得自于父母的遗传。到现在，我一直很感谢父母，虽然他们没有给我姣好的脸孔，美好的身材，却给了我一些较为特殊的天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记得念高中时，回家的路上常有个建中的男生，在我面前晃来晃去，且不时尾随。有一天，他骑自行车故意把我撞倒，当时我非常生气，骂他瞎了眼。那时，我一点也不会想到他对我有什么企图，因为高中时代的我，对自己的外貌实在太没有信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大学后，我竟收到一个男生写来的情书。因为怀疑这男生是否送错人，所以只好把它收藏起来；后来又收到另一个男生送来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朵玫瑰花，因为对自己的外貌还是没有信心，也吓得躲得远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57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到我大学毕业，进了广告公司，发现有各式各样的男士，用各式各样的理由接近我，才开始问我自己：“我到底是一个什么样的女孩？是不是我父母定位的那个其貌不扬的女儿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后来，又有很多兄弟般的男士带着他们的女朋友来问我：“怎么样？帅吧，看我的女朋友多漂亮。”天啊，这样的女孩算漂亮，难道这些男生如此没有审美眼力？经过这许多事件，我才发现人们真是各有所好，你看不起眼的人，另一个人却把他当成宝贝一样。你不一定要五官漂亮，你的个性、你的温柔，种种体贴人的特质，甚至于一颦一笑，露出一个小小的酒涡，都可能吸引异性。因此，任何人只要不断地往自己身上做正面的投资，如知识、艺术修养、待人处事的诚恳等等，这个人绝对会变成一位有魅力的男性或女性，所以绝对不要妄自菲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69840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轻人最重要的是要知道自己的优点，并努力发挥，从别人给自己的定位，到自我体认，这是要经过一番漫长的心理周折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大学毕业后，我一心想进广告公司做事。有一位长辈跟我说：“现在某公司所用的女性职员个个都如花似玉，和电影明星一样，像你这样，不一定有机会可以录取喔。”我当时心想，我应征的是企划撰文，凭什么要脸蛋漂亮？我决定去试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4360" y="83664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果我经过了三关考试。第一关，要把当时一则社会新闻：一辆大卡车撞死一个小学儿童的事件，写成一篇感性的文章；第二关，要即刻诵读一页英文杂志的内容；最后一关，是传闻中很喜欢漂亮女生的广告公司负责人考试。我进去，他一直讲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足足讲了二三十分钟之后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突然对我说：“你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字，把我刚刚所说的重点写出来。”我立刻把大学上课记笔记的功夫施展出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完成他的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765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些高中学生由于对自我的认识不够客观，自我意识模糊不清，导致自信心减弱，陷入自卑。自卑的学生由于害怕得罪他人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被人侮辱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尽一切可能避免正面的冲突。其结果使身边的人对他们的要求越来越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而对他们本身的需求漠不关心。要帮助这些学生找回失落的自我，重建自信心，就要进行自我确定的训练，学会自我调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6253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星期之后，我尚未接获通知，不免伤心沮丧地想，一定是外表把我拖下来了。不料几天后，我竟收到了录取的通知单，而且报到时，我觉得非常光彩，因为在新职员介绍会上，全部新人都是由人事经理介绍，唯独我是由公司负责人特别亲自介绍的。他说：“你们都知道我一向用人的原则，但大家知道我为什么要用她吗？因为好有一个漂亮的大脑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此以后，我在广告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，如鱼得水，自基层做到高级主管。在那种重男轻女，女人只能是花瓶的时代，是很难得的突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无论如何，只要你能跨出第一步，总比站在原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69228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进行自我确定训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找到产生自卑感的原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并学会进行自我调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125360"/>
            <a:ext cx="849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你考虑一下，在家中、学校里或与朋友相处时，你是否有被人“看扁”（即被人欺侮、不尊重、占便宜）的经历？如果有，请就其中一次经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回忆当时的情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“看扁”你的人与你的关系：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当时的环境（包括在场的人和他们的反应）：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你的感受和你的反应：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以前发生过的同类事情：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你认为正确的反应：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0"/>
            <a:ext cx="22701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明镜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052640"/>
            <a:ext cx="685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通过回忆被贬的经历，你一定对自己的处境有了较为完整的认识，你也许发现自己在解决问题或处理人际关系时有一种特殊的模式，而这种模式直接或间接地“请”别人来践踏、贬低你。那么，如何改变自己的这种不良行为模式，重建自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63480" y="698400"/>
            <a:ext cx="7869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认清自身的权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确定自我、维护自己的尊严而作出反击之前，最重要的是认清自身的权益。记住一个原则，那就是：别人可以就你处理问题的方式提出质疑，但绝对不能对你作出人身攻击。那么，请你思考：在家中、学校里或与朋友相处时，你希望受到别人怎样的待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62532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还有一个原则是要认清敌友。朋友对我们讲一些攻击性的话，是为了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提高我们的警觉，给予我们的自我一个成长的机会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因此，我们应对朋友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宽容一些，并可以争取在朋友们的帮助下重建自信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敌意的人对我们讲攻击性的话，是为了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打击我们的自信心，贬低我们的自我，从而使我们在他（她）面前抬不起头来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因此我们应对其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见招拆招，不但不被他（她）打倒，而且要更加自信，以此作为还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625320"/>
            <a:ext cx="86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停止自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要确定自我，得到别人的尊重，必须首先学会尊重自己。不要讲不自信的话和贬低自己的话，使别人有机会攻击你。让我们重温自己在被贬情境中的沟通模式，回忆自己所讲的自贬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66552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自贬的话对我们的危害表现在：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自己贬低自己，只能增加自己“注定失败、一定不行”的信念，打击自己的信心，使自己在行动中缺乏足够的勇气而导致失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因此，从这一分钟开始，停止讲有自贬成分的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625320"/>
            <a:ext cx="8208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三、制止践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的自我是有生命的凡是有生命的东西都需要小心灌溉培植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才能使它茁壮成长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果任由别人践踏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它就会枯萎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思考别人在什么情况下得以践踏你的自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48920" y="3952800"/>
            <a:ext cx="90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、当自己的立场不鲜明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、当不为自己的立场辩护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5:13:4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5:33Z</dcterms:modified>
  <cp:revision>1</cp:revision>
  <dc:subject>主题班会课件(分28大类): http://shop62905894.taobao.com</dc:subject>
  <dc:title>主题班会课件(分28大类): http://shop62905894.taobao.com</dc:title>
</cp:coreProperties>
</file>